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B42-D539-45AE-B341-EA56E41C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97B-5113-41BB-8DE6-3B3432F0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229-6A3C-462F-AE48-CDD61FC2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316-2B1B-4A96-973B-73C6950F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2258-6F70-4523-B415-A29F86FC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185-46EF-4930-85E8-C7CF74D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001C-603E-47A0-B127-A2BE8B2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E0BC-AC43-4841-8FB0-6C2C473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7DBB-3A11-42A5-8DB3-B29C259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F84-A7D6-483B-AD46-0102894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508-BA7C-46CA-9BF6-25451A3F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23D-85F5-4A14-8404-FA5E859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F98-D42E-413A-9471-6D7DD95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30A4-C0D5-4BBA-B678-D34E733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D9F2-A50D-4553-8694-8DFDE2F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234-DD5E-4273-92D5-1CFD02A6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BF6-3062-4BA1-B7FB-A57AF902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D6691-782F-4352-AEAC-A83414F1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BD7C-C190-4344-9DFA-7C2759B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41256-70D6-4108-93D9-C26673D9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A5923-5412-4724-8A44-F948AC1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0B0F3-81F9-4C43-A530-530DF9A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08E-4DD5-4565-A5EF-A1F32E51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A9D9B-33F7-471D-99CD-FB26867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9FC94-8EE8-4947-8339-C713C58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D79E4-B1DB-46A8-A150-6C50F65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284A6-2CF0-48FE-8B75-C93C7285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605B4-1500-4E34-B25A-892633E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05636-8957-4D94-B541-10C102B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D4C20-FF59-4569-A6C0-E94CB535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BAF3-66CE-47B9-B31F-ABA6B2E9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A61C-6C13-437A-A777-FBC6B25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0DC1-2BB5-4C53-A82F-8CAE0C6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991-8B40-4A92-90C9-214B0CE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018D-D1B2-42FA-920C-A33F4EC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0EAD-CB60-4DAD-9DC5-68D1EF5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C14A-C79A-4321-8729-132A6D1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BFB2-569D-4082-876F-9EE64C5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2B6D-A6C4-458A-A9C1-746FC8E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3BA0-E847-4151-9BF2-6AAC41A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19C0-4AFA-44D3-8AC7-1C5D800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7CB3-8502-4924-AFB5-3A7D76F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F63C-44F5-4B2C-B9C3-255724BF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2822C-27E8-41C2-8070-5F8E077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90C-F09C-43A9-9948-9696A65D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6A589-FB23-4B3E-A98C-C84572A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FBE09-439F-4386-92B0-EA5589DB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941BC-581A-4430-9323-6D904C75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0E7E1-F3C0-4F54-B561-509EF90A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49F51-FA12-49A6-9B56-438F3C9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EA4A0-20CC-4934-8B2B-E6694B7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CE866-286F-4BE3-83C1-3F4D802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E8498-78E0-4D6F-8C52-6A37848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48DAD-6E29-4714-8165-67E1B55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DB4C7-1A77-4625-99D0-492A974D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FF1-E1CB-4899-A3DA-C469053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60F06-FC20-4513-9FEF-DD88A379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981F8-D620-4681-941F-0D74034B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FFC43-C37F-4E02-BF89-8C18CA1F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6AE22-F3C3-46C6-B9F6-2E5897A4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619F1-13FD-47C6-99E9-D83DCB83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1F80D-97DA-49C2-8C6A-C078301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EE193-8FD6-49E1-8880-6E797DEC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28291-78F2-4E31-9517-D74EF0E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556C5-66E9-431F-B5C7-3398CDF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89A3D-514D-4442-80A1-E210FBA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286-81C5-4139-8296-1A8F8AC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E0637-91DF-40EB-8E46-EC65674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63EDD-7B5E-47E0-BF86-DB82DFAF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39ED3-DAEA-461B-9D6C-95413BB9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FFB56-DF86-4BC1-9BFE-794C57E0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47C95-2348-4130-9899-66F4708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8791B-F272-4FE2-BDF1-DA0D387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D975A-17F7-41C3-BBBD-1C00B4C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EFD4A-1D20-4963-9FFD-49CDF60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26146-8DC5-4636-A9BF-B6C6093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12E26-4C9F-4E9F-9F1B-6D07782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372-5FE6-4416-8CEA-3F16C46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022A5-741B-4FBD-BF56-DFDD20DD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84493-85C0-4D02-A15C-05C53F3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3E924-A80E-4D83-9F87-2D5021F1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0375D-5542-4BEE-A764-A82102C5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BCB1C-FF37-495A-AAFA-728869AE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F3B-7CA5-4EEB-849E-8809EB7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D72F-DDDF-4846-AEB2-0F9BACA51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882-6E36-4B40-9E30-E2FEB2D2ED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989-DF5F-40B8-BDE9-894DAA3674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35F9-D5CE-4F85-B54E-3DCB79C1D1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CAAA-63D1-4470-B4E5-A77AE4AE11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A68-551A-4CFC-B16D-6C80398EE7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339C-65C7-422C-B76F-04C1881BEE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56920" y="1285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ГДЕ В ПРАКТИЧЕСКОЙ ЖИЗНИ ИСПОЛЬЗУЕТСЯ СИСТЕМА КООРДИНАТ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еник 6 класса Жёркин Его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1" descr="Рисунок21"/>
          <p:cNvPicPr/>
          <p:nvPr/>
        </p:nvPicPr>
        <p:blipFill>
          <a:blip r:embed="rId2"/>
          <a:stretch/>
        </p:blipFill>
        <p:spPr>
          <a:xfrm>
            <a:off x="500040" y="1214280"/>
            <a:ext cx="7429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ВЫВ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ка я делал этот проект, я узнал, что такое система координат, оси координат, как находить точку по координатам. А самое главное – я узнал, где в практической жизни используется система координат, что может мне пригодится при выборе будущей професс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14520" y="785520"/>
            <a:ext cx="3709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БОЛЕЕ ЧЕМ ЗА 100 ЛЕТ ДО Н.Э. ГРЕЧЕСКИЙ УЧЁНЫЙ ГИППАРХ ПРЕДЛОЖИЛ ОПОЯСАТЬ НА КАРТЕ ЗЕМНОЙ ШАР ПАРАЛЛЕЛЯМИ И МЕРИДИАНАМИ И ВВЕСТИ, ТЕПЕРЬ ХОРОШО ИЗВЕСТНЫЕ, ГЕОГРАФИЧЕСКИЕ КООРДИНАТЫ: ШИРОТУ И ДОЛГОТУ, И ОБОЗНАЧИТЬ ИХ ЧИСЛАМИ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6" descr="Рисунок8"/>
          <p:cNvPicPr/>
          <p:nvPr/>
        </p:nvPicPr>
        <p:blipFill>
          <a:blip r:embed="rId1"/>
          <a:stretch/>
        </p:blipFill>
        <p:spPr>
          <a:xfrm>
            <a:off x="285840" y="1571760"/>
            <a:ext cx="2752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36860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ВО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II </a:t>
            </a: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ВЕКЕ Н.Э. ЗНАМЕНИТЫЙ ДРЕВНЕГРЕЧЕСКИЙ АСТРОНОМ КЛАВДИЙ ПТОЛЕМЕЙ УЖЕ ПОЛЬЗОВАЛСЯ ДОЛГОТОЙ И ШИРОТОЙ В КАЧЕСТВЕ ГЕОГРАФИЧЕСКИХ КООРДИНА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6" descr="Рисунок20"/>
          <p:cNvPicPr/>
          <p:nvPr/>
        </p:nvPicPr>
        <p:blipFill>
          <a:blip r:embed="rId1"/>
          <a:stretch/>
        </p:blipFill>
        <p:spPr>
          <a:xfrm>
            <a:off x="5286240" y="0"/>
            <a:ext cx="3052800" cy="3286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572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0" descr="Рисунок3"/>
          <p:cNvPicPr/>
          <p:nvPr/>
        </p:nvPicPr>
        <p:blipFill>
          <a:blip r:embed="rId1"/>
          <a:stretch/>
        </p:blipFill>
        <p:spPr>
          <a:xfrm>
            <a:off x="214200" y="0"/>
            <a:ext cx="4057920" cy="4000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Рисунок4"/>
          <p:cNvPicPr/>
          <p:nvPr/>
        </p:nvPicPr>
        <p:blipFill>
          <a:blip r:embed="rId2"/>
          <a:stretch/>
        </p:blipFill>
        <p:spPr>
          <a:xfrm>
            <a:off x="4429080" y="3676680"/>
            <a:ext cx="4267080" cy="31813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5"/>
          <p:cNvSpPr/>
          <p:nvPr/>
        </p:nvSpPr>
        <p:spPr>
          <a:xfrm>
            <a:off x="928800" y="485784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Система географических координа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5000760" y="10717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Широта – параллели, долгота - меридиа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Schoolbook"/>
              </a:rPr>
              <a:t>ЧТОБЫ ПРАВИЛЬНО ЗАНЯТЬ СВОЁ МЕСТО В КИНОТЕАТРЕ, НУЖНО ЗНАТЬ ДВЕ КООРДИНАТЫ – РЯД И МЕСТО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6" descr="Рисунок1"/>
          <p:cNvPicPr/>
          <p:nvPr/>
        </p:nvPicPr>
        <p:blipFill>
          <a:blip r:embed="rId1"/>
          <a:stretch/>
        </p:blipFill>
        <p:spPr>
          <a:xfrm>
            <a:off x="642960" y="150012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 ИГРЕ «МОРСКОЙ БОЙ» КАЖДАЯ КЛЕТКА НА ИГРОВОМ ПОЛЕ ОПРЕДЕЛЯЕТСЯ ДВУМЯ КООРДИНАТАМИ – БУКВОЙ И ЦИФРО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324240" cy="3171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000680" y="1428840"/>
            <a:ext cx="4305240" cy="38480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4416840" y="564372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Аналогично в шахмат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С ПОМОЩЬЮ КООРДИНАТНОЙ СЕТКИ ЛЁТЧИКИ И МОРЯКИ ОПРЕДЕЛЯЮТ МЕСТОПОЛОЖЕНИЕ ОБЪЕКТОВ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2" descr="Рисунок6"/>
          <p:cNvPicPr/>
          <p:nvPr/>
        </p:nvPicPr>
        <p:blipFill>
          <a:blip r:embed="rId1"/>
          <a:stretch/>
        </p:blipFill>
        <p:spPr>
          <a:xfrm>
            <a:off x="457200" y="1849320"/>
            <a:ext cx="74674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714840" y="274320"/>
            <a:ext cx="4214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РЕНЕ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ДЕКАРТ 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(1596-1650) ФРАНЦУЗСКИЙ ФИЛОСОФ, ЕСТЕСТВОИСПЫТАТЕЛЬ, МАТЕМАТИК. ЦЕЛЬЮ ДЕКАРТА БЫЛО ОПИСАНИЕ ПРИРОДЫ ПРИ ПОМОЩИ МАТЕМАТИЧЕСКИХ ЗАКОНОВ.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АВТОР КООРДИНАТНОЙ ПЛОСКОСТИ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, ПОЭТОМУ ЕЕ ЧАСТО НАЗЫВАЮТ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ДЕКАРТОВОЙ СИСТЕМОЙ КООРДИНАТ.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6" descr="Рисунок9"/>
          <p:cNvPicPr/>
          <p:nvPr/>
        </p:nvPicPr>
        <p:blipFill>
          <a:blip r:embed="rId1"/>
          <a:stretch/>
        </p:blipFill>
        <p:spPr>
          <a:xfrm>
            <a:off x="142920" y="571680"/>
            <a:ext cx="3071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4:32:19Z</dcterms:created>
  <dc:creator>26519</dc:creator>
  <dc:description/>
  <dc:language>en-US</dc:language>
  <cp:lastModifiedBy>26519</cp:lastModifiedBy>
  <dcterms:modified xsi:type="dcterms:W3CDTF">2010-05-14T04:22:20Z</dcterms:modified>
  <cp:revision>9</cp:revision>
  <dc:subject/>
  <dc:title>Слайд 1</dc:title>
</cp:coreProperties>
</file>